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8A8-3399-4019-A570-FD897B74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917-D0C5-4864-BC53-D95B53D1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EFC-BB50-4377-AF42-0CA93C0A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09B-5F73-4A50-A2E5-D5BBFB0C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BA93-AA72-457B-8DE4-9542E066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03C4-B409-437E-AAD1-3D8E993C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BB14-6A58-4C8C-AB9A-AF4A1B16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BC75-F6A4-4D20-A4AF-88807F14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7666-B57D-4F09-AD8C-164BB8C9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111E-F71B-4985-93FE-BC72C751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E329-FF0D-4FB7-96E8-BA0BA0A3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4B7-64FE-47EB-8F01-28BF0B88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D483-C1C2-4AF0-86B8-D997BDDE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8474-4011-423B-81DC-6BF8766F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575A-60CC-430A-A72C-8569186A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03F4-D62B-4319-8534-819086DC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08FD-E904-4A6F-B605-B992799B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78D-800C-4A83-972C-367A2479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A03-4C73-49C4-845E-14CCC082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040-0D8D-44BD-A06D-562178F1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F26-5E99-4198-98CB-9769C232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16A-926B-4AFC-9E9E-482FD3D3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350-7206-4C8A-B5E5-8E36D215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D02-4611-48A3-B94C-85BB8A2B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65A5-40E9-4B7F-9130-00DF923D765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DC00-C06F-4341-8C74-CDAEB1D406C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aren Burt, M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rector, Integrative Health Progra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valuation:  Questionair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Volunteers call patients in 1-4 weeks and ask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Was the Doula helpful during the labor and birth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What was most helpful about the Doul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                      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breathing help          Massage           compresse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                               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positioning           comforting word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Would you recommend a doula to your friend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Comm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Issues that Aros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king a smooth entry into L&amp;D – with nursing and medical suppo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doula commitment to continuous support can be exhaust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olunteer status of the organizers / support tea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uccess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Doulas involved – several more in the wing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volunteering for administration assista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~20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Assisted Birth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nominated for Service Excellence Awar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ellent reception by nursing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Next Train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id - Augus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pe for 10-15 new traine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stribute flyer to anyone interested!!!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Q 2 month mini-trainings:  Spanish phrases, ergonomics, back labor, positioning, massage, inductions and augmentations, epidurals, et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rstory – Collaborator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tasha Pinto, MD –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0" lang="en-US" sz="1700" spc="-1" strike="noStrike" baseline="30000">
                <a:solidFill>
                  <a:srgbClr val="ffffff"/>
                </a:solidFill>
                <a:latin typeface="Constantia"/>
              </a:rPr>
              <a:t>st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Year resident:  involved with UCSD Doula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Program (now extensive).  We adapted their materials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rs. Lisa Keller and Karen Burt –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both involved in Natural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Birthing for 30 years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oz Hunter, RN: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previously a midwife.   Coordinator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ex Dronkers, RN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rom Netherlands.  Scheduling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role Hagin, CNM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idwife for 30+ years.  Train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Volunteers: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valuation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rstory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terials from UCSD adapted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  Mission, Policy and Procedures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trategy and Actions, Standards of Practic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rst Training:  February 7,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rse Focus Groups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questions, concerns, fears, expectation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et the Doula’s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urses and doulas met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perienced Doula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osen to do the first couple of births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low roll out in April of more doulas on-cal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going Doula Potluck/trainings Q 2 month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at is a Doula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 can give support to pregnant women and their families – before, during and after the birth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iend, mentor, and labor coac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in many cultures – usually women with a lot of life experie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labor: provide continuous physical, emotional and informational suppor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private sector: provide advocacy for a safe and satisfying birth experie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Perspectives in Childbirth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ealth Care System : 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SAFETY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s the top priority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Laboring Woman:  Birth is a Life Passage in which both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SAFETY and SATISFACTION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ave great significance  - affects:  </a:t>
            </a:r>
            <a:r>
              <a:rPr b="0" lang="en-US" sz="1900" spc="-1" strike="noStrike">
                <a:solidFill>
                  <a:srgbClr val="ffff00"/>
                </a:solidFill>
                <a:latin typeface="Constantia"/>
              </a:rPr>
              <a:t>self esteem,   parenting,  breast-feeding skills ,  immediate birth outcome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atisfaction:  influenced more by 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quality of support she receives, feeling in control of herself, and feeling she was actively involved in decision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than by degree of pain, number of interventions, or even the medical outcomes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o are the CCRMC Doulas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ng women interested in Doula, nursing, or midwifery as a profes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omen attracted to assisting in the peri-natal time, especially birth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lder women desiring to mento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fessional Doulas (in the private sector) who want to donate their skills to the underserved popul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Doula Role at CCRMC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tinuous labor support (Non-Medical)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chrane Library published in 2003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“Women who had continuous intra-partum support were less likely to have intra-partum analgesia, operative birth or to report dissatisfaction with their childbirth experiences.”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Nursing often too busy,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though they would like to be there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oulas  On-Call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: two 12 hr or one 24 hr shift per month – stay for birth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Available for: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aboring women who are alon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aboring women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whose family is unable to support them wel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Even with epidural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Future:  possible expansion of rol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Doula Birth Suppor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reathing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assag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irthing Bal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osition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mbul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mpresses hot and col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Guided Imagery / visualiz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usic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ight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how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Verbal Encouragemen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struction and Support for Partners and Family member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mmunication with Nursing and Medical personne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valuation:  Birth Lo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imip/Multi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nguag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thnic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amily pres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urs of Labor / Stage when Doula arriv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erven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in Manage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livery </a:t>
            </a: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(NSVD, VBAC, Vacuum, Forceps, C-Sec)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utcome of baby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(weight, Apgars, gestational age)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23:00:28Z</dcterms:created>
  <dc:creator>Karen Burt</dc:creator>
  <dc:description/>
  <dc:language>en-US</dc:language>
  <cp:lastModifiedBy>lthomas</cp:lastModifiedBy>
  <dcterms:modified xsi:type="dcterms:W3CDTF">2009-05-26T18:30:58Z</dcterms:modified>
  <cp:revision>18</cp:revision>
  <dc:subject/>
  <dc:title>CCRMC Volunteer Doula Program</dc:title>
</cp:coreProperties>
</file>